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A92-BFF8-46FA-8CE4-6D28CC21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700-E264-4E96-849B-9174AC95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758-EE86-4DC8-B741-8B830DE3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CE7-40B1-4D4C-9CB1-D4B4FAD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DF1D-6FE5-4654-A198-5A3F225A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3781-F99B-4722-8A9A-011348F3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941-33B7-4F46-8ED6-4A9C938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0526-6BF3-4BCE-BE78-4B11A20C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D1B8-4200-424E-865A-C6340CB3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591-34A6-4E20-8E9E-B890C8B1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839-3F6E-4738-AD4C-6A269BC8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720-D4D6-4DC5-BC2C-D332F2F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C3F-06A1-48F7-A1CB-DAD0745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8315-0B89-45A5-B56B-6DD8B1F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4DFF-2A8F-4918-B62D-E21BA605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4ABD-6BD8-413B-A311-FAD049D7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220C-B2B2-42B1-9879-8A336CE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E16-F0DD-4D64-B7E6-5CFDCF2B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0C4-E5E2-475F-B226-3D258B7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F16-60BD-442C-A7BD-66C1FC4E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88B-0136-461F-A3A4-22E1329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04E-D4B0-4D5C-BEE3-FAC9453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2FA-281C-418A-9130-A1C3043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85A-4134-45CD-B296-748D920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4926-3E0D-40A7-8377-E8EDA7FD56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3D6B-78C1-4B3D-A965-3A74C8789A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203560"/>
            <a:ext cx="715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RÓWNYWANIE UŁAMKÓW O TYCH SAMYCH MIANOWNIK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27360" y="375444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ęcej figury zamalowała Ania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000" y="177624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ęcej pizzy zjadł Lolek, poniewa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6039000"/>
            <a:ext cx="59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 odległość punktu jest większa, która leży dalej od zera; za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KŁ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360" y="86364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) Bolek zjadł    , a  Lolek    tej samej pizzy. Który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z chłopców zjadł więcej pizz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9720" y="83016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6732720" y="1360440"/>
            <a:ext cx="946080" cy="1393920"/>
            <a:chOff x="6732720" y="1360440"/>
            <a:chExt cx="946080" cy="13939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32720" y="1360440"/>
              <a:ext cx="946080" cy="1393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777720" y="2397240"/>
                  <a:ext cx="149040" cy="3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122720" y="819000"/>
                <a:ext cx="152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376280" y="288936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) Ania zamalowała    figury, Lenka    figury. Która z dziewczynek zamalowała większą część figu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8128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57720" y="2889360"/>
                <a:ext cx="15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1467000" y="5003640"/>
            <a:ext cx="5759280" cy="393840"/>
            <a:chOff x="1467000" y="5003640"/>
            <a:chExt cx="5759280" cy="393840"/>
          </a:xfrm>
        </p:grpSpPr>
        <p:sp>
          <p:nvSpPr>
            <p:cNvPr id="111" name=""/>
            <p:cNvSpPr/>
            <p:nvPr/>
          </p:nvSpPr>
          <p:spPr>
            <a:xfrm>
              <a:off x="1467000" y="5003640"/>
              <a:ext cx="57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) Na osi liczbowej zaznaczono punkty    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83236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472000" y="5003640"/>
                  <a:ext cx="216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5136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030640" y="5678640"/>
                <a:ext cx="216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27800" y="4340160"/>
                <a:ext cx="393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73880" y="2090880"/>
                <a:ext cx="3934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48480" y="6354720"/>
                <a:ext cx="5331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2141640" y="3519360"/>
            <a:ext cx="1214280" cy="1452240"/>
            <a:chOff x="2141640" y="3519360"/>
            <a:chExt cx="1214280" cy="1452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673000" y="4628880"/>
                  <a:ext cx="128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141640" y="3519360"/>
              <a:ext cx="1214280" cy="113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6642000" y="3564000"/>
            <a:ext cx="1170000" cy="1439280"/>
            <a:chOff x="6642000" y="3564000"/>
            <a:chExt cx="1170000" cy="1439280"/>
          </a:xfrm>
        </p:grpSpPr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7170120" y="4660920"/>
                  <a:ext cx="127440" cy="34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6642000" y="3564000"/>
              <a:ext cx="117000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050920" y="1554120"/>
            <a:ext cx="1306800" cy="1335240"/>
            <a:chOff x="2050920" y="1554120"/>
            <a:chExt cx="1306800" cy="13352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2050920" y="1554120"/>
              <a:ext cx="1306800" cy="133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281320" y="1739880"/>
                  <a:ext cx="12996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9" name=""/>
          <p:cNvGraphicFramePr/>
          <p:nvPr/>
        </p:nvGraphicFramePr>
        <p:xfrm>
          <a:off x="1871640" y="5543640"/>
          <a:ext cx="5434200" cy="14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1640" y="5543640"/>
                    <a:ext cx="543420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67000" y="562752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62752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53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27360" y="1306440"/>
            <a:ext cx="6165720" cy="4508280"/>
            <a:chOff x="1827360" y="1306440"/>
            <a:chExt cx="6165720" cy="4508280"/>
          </a:xfrm>
        </p:grpSpPr>
        <p:graphicFrame>
          <p:nvGraphicFramePr>
            <p:cNvPr id="137" name=""/>
            <p:cNvGraphicFramePr/>
            <p:nvPr/>
          </p:nvGraphicFramePr>
          <p:xfrm>
            <a:off x="1827360" y="1306440"/>
            <a:ext cx="6165720" cy="450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7360" y="1306440"/>
                      <a:ext cx="6165720" cy="450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141640" y="1947600"/>
              <a:ext cx="5580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Z dwóch ułamków </a:t>
              </a:r>
              <a:br>
                <a:rPr sz="4000"/>
              </a:b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tych samych mianownikach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jest ten, który ma 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większy liczn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42:12Z</dcterms:modified>
  <cp:revision>49</cp:revision>
  <dc:subject/>
  <dc:title>Slajd 1</dc:title>
</cp:coreProperties>
</file>